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8F7-A105-4031-B946-3E554272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602-3DE0-412F-AAD5-8CC86796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FA5-ADD2-49BC-967C-B551E666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A24-CBF3-446B-A167-E79F54F2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510-FA2B-4D03-A29E-5E10819F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62C-D0B9-4200-95BC-103F67FF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080-F3ED-462F-9922-C52B8D94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169-D87E-428A-BDDC-86CF73AE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2BF-CA4C-4639-98B8-CBB0FE69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298-6142-44A6-8F78-35D9824A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E78-1522-430C-83AD-B849D60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376-4365-452F-A12C-2F351709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3F30-A7D6-4E26-A009-574F978CD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85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DICE DE LA PRESENTACION EN POWER PO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28600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9933"/>
                </a:solidFill>
                <a:latin typeface="Arial"/>
              </a:rPr>
              <a:t>PROCESO DE PROMOCIÓN DE LA INVERSIÓN PRIVAD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95320" y="4156200"/>
            <a:ext cx="7238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Presentación del Ministro de Economía y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Dr. Carlos Boloña Behr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Lima, 21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NOV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28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ICE DE LA PRESENTACION EN POWER POINT Pág. 1 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6520" y="1406520"/>
            <a:ext cx="85266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28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ICE DE LA PRESENTACION EN POWER POINT Pág. 2 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82560" y="1339920"/>
            <a:ext cx="5977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23:04:39Z</dcterms:created>
  <dc:creator>Amabila Salazar</dc:creator>
  <dc:description/>
  <dc:language>en-US</dc:language>
  <cp:lastModifiedBy>Amabila Salazar</cp:lastModifiedBy>
  <cp:lastPrinted>2000-11-23T01:10:03Z</cp:lastPrinted>
  <dcterms:modified xsi:type="dcterms:W3CDTF">2000-11-23T01:40:13Z</dcterms:modified>
  <cp:revision>7</cp:revision>
  <dc:subject/>
  <dc:title>Sin título de diapositiva</dc:title>
</cp:coreProperties>
</file>